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E215-665F-4AE8-85C8-A9BFB462C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CECB-3820-4BB1-8AF6-B4D56652B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017B-97AA-4BD8-9BD6-1AF1B9A47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D08D-9DB8-405A-B387-A0BFBD92D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6453-5135-44C0-81E0-68EB61178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EE19AF8-7969-4DFB-AB59-FCE7FDC6ACE7}"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F5786A1-3DF0-4462-BBE1-2647C004F2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BCEE11-6CEB-4826-993D-945327C66579}"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0C6FAE2-36D8-4AB4-BFA5-ECBE0565335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5CC8D6A-1463-4995-AC90-11B0A9568C06}" type="datetime3">
              <a:rPr b="0" lang="en-GB" sz="1200" spc="-1" strike="noStrike">
                <a:solidFill>
                  <a:srgbClr val="000000"/>
                </a:solidFill>
                <a:latin typeface="Arial"/>
                <a:ea typeface="Arial"/>
              </a:rPr>
              <a:t>31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7D371A-009A-4FFC-A92A-532A197325EC}"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3FCD519-F5B4-4D63-9385-482DE41A1C9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BB4BD1-CD00-4586-9D58-B0BC80FC775E}"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00BAAA1-BD26-4A66-BEB0-07A87A4B6968}"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00A3813-1692-4B56-AC36-363A737C7AF9}"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07C08F-C9A8-411C-8D21-06A4877E9D3A}" type="datetime3">
              <a:rPr b="0" lang="en-US" sz="1200" spc="-1" strike="noStrike">
                <a:solidFill>
                  <a:srgbClr val="000000"/>
                </a:solidFill>
                <a:latin typeface="Arial"/>
                <a:ea typeface="MS PGothic"/>
              </a:rPr>
              <a:t>July 31,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694BBD5-29F3-45B7-A955-AD39879DF5F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10F0-A9C3-4A9B-B626-92FD3989449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300830-91DA-4D5E-B74C-FA37330585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15660E-1E4C-4E56-870F-D3E1F5A1DE62}"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A70C-D12D-4175-A811-087325240C9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E662-BF5C-4B33-AD10-9178B57AE2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B5A7-24D9-493B-BA1A-F67254B40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18C0-7180-44A6-8239-3762CD54844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80F65-504B-49AE-954A-DF21D62F3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27FDF-4E82-452C-A503-BB59E9063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DFD5F-F5ED-4837-8DB2-5B4685A68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A0E7F-EAB8-4F3D-B77D-6F074870F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A3F30-D77A-42BD-9049-46CC347B3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3E1B7-3543-4049-B635-4393413D9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143F4-7CB2-48B6-ADEE-56C95B092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82E1C-907B-44E1-AC12-184D816D3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C88D2-A4AE-4669-A2F1-88F900A68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E892B-CBCC-4645-A8D8-4DCC18499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32008-1EBE-4FC3-A2AA-01C06BAC1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758A6-F608-44B8-BFE6-3C49802A6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9629-B5F4-4537-9733-3BCDFBF055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2DD7800-35D4-49AD-B94C-211EE5C416D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E2B0-53FB-48E5-8BD1-71D5BED908F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0082-13AC-4ACB-AAA7-D39A14F7F7AE}"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